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4780-A6DE-444D-917B-5BDF5BC4F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49ED-676B-4815-9269-A352077DC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3B34-781C-4E0E-9105-14A8EC0C3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3841-9FF9-4AC6-BF60-656341D71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4304-5B48-47AA-9BCC-21461A8D2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458E-6A8E-42BE-B91D-75A9A639F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B124-5E8D-4F57-8BF8-21F12947E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460A-4E45-4E03-B436-B05F2258D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3D84-A251-437D-8DF0-567C1A9D0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D3A9-B7F4-42C0-A0B9-F1B261F57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DFE8-FF6F-4C53-90FF-F530449F2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B173-AB5B-4F9C-B14A-EDFC5B69B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1744-0A3B-496B-8BDC-D2AACA2D1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D42B-0F5E-41C7-8956-605FACDBC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66CB-D580-495A-9CED-DCC1A2FC5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DB73-A694-4BBD-A68B-F71EC2995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B4CC-B882-4D43-86EC-D0C85E221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DD64-F5DA-4CAA-95FC-9CCAEC855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9069-22B3-4174-9001-657FB8E89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0D64-660F-4A65-AB35-C5B8DFA84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ABBB-ED12-4042-82A1-B35D5E1B6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EF14-B64E-48F5-8AF6-C98A1D057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334C-70BB-4DB3-BA2F-A268DABB9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A426-3403-4EC1-866B-4EAAE27F0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7A81-1D13-4F35-B8DF-3C327B19C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6EE4-28DB-41BE-AFBA-F388146E2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E557-0B03-464A-8827-9F4DBDB90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ADCD-C7D9-4EC1-859F-4F457DB6F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EA86-ECED-4FBC-BEE8-3B9E95C9B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9051-6251-4EF3-A048-3C781008C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764-230C-48F7-9217-6330B6DE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7A9-4599-4438-B242-8C926536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B24-D14B-45C8-A8BA-0BE79B72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196-CED5-4FEF-B0DC-3D4C5C9D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EAA-E94B-4D40-B734-7A0BD8E6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9181-246E-470C-9F3A-23853CB8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DDB-2475-44F4-849B-4825B5EA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4A6-B68D-4DCF-8AE8-96DD7102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98B5-BD2F-443B-99A9-3DFC3125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AB7-8D0D-4D13-A8AA-0E7EE5F0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B26-D6FB-42C0-9D79-C4864254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6A93-D751-4444-BE75-0C4B7157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BA76-2078-40F1-97C6-7F4A51D33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14400" y="1219320"/>
            <a:ext cx="76201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EMENTING SITUATIONAL LEADERSHIP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AGING PEOPLE TO PER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ROVING PRODU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219320" y="28954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04920" y="2666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OF GOODS &amp; 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IVITY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--------------------------------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OR RESOURCES USED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PRODUCE THOSE GOODS &amp;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UTPUT 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ER 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TTER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ROVED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PUT 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TTER UT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NTORY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838080" y="1371600"/>
            <a:ext cx="7696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ENTIAL TO IMPROVING PRODUCTIVITY:  LEADER-FOLLOWER INTE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60 DEGREE ASSESMENT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OF 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EVALUATE PERFORMANCE FROM MULTIPLE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-ASSESSMENT, PEER, FOLLOWER, SUPERVISOR, &amp; CUSTOMER EVAL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HEN COVEY RELATES THIS TO EMPOWE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HIEV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HERSEY AND MARSHALL GOLD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THE ACHIEV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TERMINE WHY PROBLEMS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VELOP STRATEGIES TO S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KEY FACTORS THAT INFLUENCE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MODEL IN A WAY TO REMEMBER--MNUEM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HI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=C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=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=INCEN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=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=VAL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=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-RELEVANT EDUCATION—FORMAL OR INFORMAL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-RELEVANT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-RELEVANT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 PERSON DO THE JOB WITH THE KNOWLEDGE, SKILL, AND EXPERIENCE HE/SHE H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RITY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OR ROLE PERCEP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MAJOR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SHOULD THEY BE ACCOMPL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OF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NOT VER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838080" y="53341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ER AND LEADER SHOULD HAVE THE SAME ANSWERS FOR THE TOP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GANIZATIONAL PERFORM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752480" y="167652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THAT CONTRIBUTE TO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590920" y="3276720"/>
            <a:ext cx="37335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human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371600" y="62485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er to page 342, figure 15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BUDGET &amp; PERSO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ITABLE EQUIPMENT &amp; FAC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ROM OTHER DEPAR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WHERE HELP I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ENTIV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 OR WILLING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C OR EXTRINSIC RE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S TO PAY, PROMOTION, RECOGNITION, JOB SECURIT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ACHING &amp; PERFORMANCE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L—DAY TO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—PERIODIC RE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COGNITION FOR GOOD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ITY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 &amp; LEGAL PERSONNEL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DOCUMENTED &amp; JUSTIFIED ON THE BASIS OF PERFORMANCE-ORIENTED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AL 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FACTORS CAN INFLUENCE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 COMPETITION, CHANGING MARKET CONDITIONS, GOVERNMENT REGULATIONS, SUPPLI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S SITUATIONAL LEADERSHIP CONCEPT &amp; ACHIEV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EMENTING PERFORMANCE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READINESS LEVEL TO DETERMINE INPUT OF FOLL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ON EVERYONE’S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UPPORT SHOULD THE ORGANIZATION PRO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A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ONS BETWEEN LEADERSHIP STYLE AND READ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FFICIENT ANALYSIS BEFORE INTER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E PROBLEMS E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URPR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READINESS—SELF EVAL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READINESS—DIRECTIVE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DLE READINESS—JOINT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HASIS:  IMPROVE HUMAN 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85800" y="22096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ing on a firm’s human resources could provide a significant opportunity to secure a sustained edge over competitors” (Hersey, Blanchard, &amp; Johnson, 34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3520" y="1066680"/>
            <a:ext cx="83055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cMillan &amp; Schular see an increasing role for human resource managers in developing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dentify needed skills and current in-house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o 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human resources are unequivocally excell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motivate employees who possess the key skil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trategic targets could be pursu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trategic thrusts will be critical for the fut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990720" y="18288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Millan and Schuler state that advantage can be gained by making employees have the essential skills and are suitably motiva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057400" y="182880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 FACTORS OF PERFORMANCE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CLAY CA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ST CRITICAL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—WHAT THE INDIVIDUAL OR GROUP TRIES TO ACHI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VS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 REQU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 DES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E—WHY SHOULD THEY DO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N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ARTS OF THE S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TELL WHEN GOAL IS ACCOMPLISHED; WHEN DO I KNOW I AM SUCCESS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REPORTS OF QUALITY AND QUANTITY OF PROGRESS TOWARD THE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WHAT ARE THE RESOURCES AVAILABLE TO ACHIEVE THE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NOT JUST LEARN BUT APPLY/PERFORM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MUST BE GIVEN TIME AND PRIORITY BY SUPER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02:15:54Z</dcterms:created>
  <dc:creator>Tricia Hester</dc:creator>
  <dc:description/>
  <dc:language>en-US</dc:language>
  <cp:lastModifiedBy>AEURY</cp:lastModifiedBy>
  <dcterms:modified xsi:type="dcterms:W3CDTF">2009-06-01T16:09:28Z</dcterms:modified>
  <cp:revision>12</cp:revision>
  <dc:subject/>
  <dc:title>PowerPoint Presentation</dc:title>
</cp:coreProperties>
</file>